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FFD-8C26-4F22-9695-FA011D85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2D9-D0FA-4B2E-B278-9DD302E8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D6A-D1F0-4015-8D94-B7E40B11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C02-6298-4583-8729-DD243F16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0589-2AFA-4039-A108-9919CBB8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5733-B6AA-45DD-ABB1-7612E40A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499C-1EE7-436B-B29B-8755A7FE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3805-979D-4546-9858-035D71D4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A6D6-E8AD-4933-A68D-9292298A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8EF5-1C53-4368-8015-D15C1A53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43A8-F228-4B60-B12D-412C59E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04A-F5A8-4030-BEE8-70F6F4F9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948E-82F1-42D3-B91C-E2D36FD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EE6A-5240-4021-A934-30C93225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520F-C2D1-4902-B872-B4C57EAC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8AE4-4822-4754-B654-80024C52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FCBF-876F-47FF-957A-6484787C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467-B241-4633-83CF-354BDDB2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3DE-37E5-4F71-A636-8FC7FABC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B47-2504-4BA5-A541-977C5CAE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2A2-DB6B-4497-9ECF-88D4960A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0A2-76B7-457B-B671-DE275080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894-4340-4DDC-85FE-7A7527F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FCB-0AEE-4010-9D5C-0806E69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FD30-43F1-463A-8C39-90A09A57BB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C396-DCA4-4470-A37D-C9426C4C44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 B &amp; V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ly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come, Expenses, and Prof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y Recommend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of all the information I gathered, I have concluded that  B B &amp; V is worthy of a financial loan of up to 750,000 dollars. They have shown significant profit for the 2008 season and expectantly will show the same or more for the subsequent seas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30:16Z</dcterms:created>
  <dc:creator>evalen00</dc:creator>
  <dc:description/>
  <dc:language>en-US</dc:language>
  <cp:lastModifiedBy>evalen00</cp:lastModifiedBy>
  <dcterms:modified xsi:type="dcterms:W3CDTF">2010-11-23T13:48:50Z</dcterms:modified>
  <cp:revision>2</cp:revision>
  <dc:subject/>
  <dc:title>B B &amp; V</dc:title>
</cp:coreProperties>
</file>